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E81F-3D33-4F84-A73B-A9853194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440"/>
            <a:ext cx="6172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7C5-0E8E-4473-9C39-05A6F6D9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6D4-F12D-407B-91BB-6608A9E0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56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56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44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44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440"/>
            <a:ext cx="1987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75E-605C-4A19-BF3F-4934DF67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560"/>
            <a:ext cx="6172200" cy="65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EA4E-A290-4D56-95B2-5823781A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617220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FFC-A870-446B-8FE6-9344B823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732-58FB-4920-B1F0-1CB2D3C8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8A3-51BB-4DD1-B8EC-02A7510D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A71-3F1F-4E75-947F-FC61FEF2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591-FDC6-46DF-91A6-D85EBBD7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44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6E1-60FC-4110-B862-09B5BE7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560"/>
            <a:ext cx="301176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440"/>
            <a:ext cx="6172200" cy="31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BBB-6838-476A-A450-A7C809B6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560"/>
            <a:ext cx="6172200" cy="65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AFFB-79B1-4694-9A7A-9F4A73F7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71680" y="1310400"/>
            <a:ext cx="592920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a99c4">
                  <a:alpha val="5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EABILITARE SISTEM RUTIER STRADA  PERA DUMIT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7"/>
          <p:cNvSpPr/>
          <p:nvPr/>
        </p:nvSpPr>
        <p:spPr>
          <a:xfrm>
            <a:off x="928800" y="531000"/>
            <a:ext cx="5553000" cy="274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a99c4">
                  <a:alpha val="5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neficiar:     PRIMARIA SECTORULUI  6,  BUCURE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1"/>
          <p:cNvSpPr/>
          <p:nvPr/>
        </p:nvSpPr>
        <p:spPr>
          <a:xfrm>
            <a:off x="1000080" y="1926720"/>
            <a:ext cx="5472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TUDIU DE FEZABILIT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4"/>
          <p:cNvSpPr/>
          <p:nvPr/>
        </p:nvSpPr>
        <p:spPr>
          <a:xfrm>
            <a:off x="2565360" y="200160"/>
            <a:ext cx="40323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5"/>
          <p:cNvSpPr/>
          <p:nvPr/>
        </p:nvSpPr>
        <p:spPr>
          <a:xfrm>
            <a:off x="549360" y="130320"/>
            <a:ext cx="619272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6"/>
          <p:cNvSpPr/>
          <p:nvPr/>
        </p:nvSpPr>
        <p:spPr>
          <a:xfrm flipV="1">
            <a:off x="6669000" y="199800"/>
            <a:ext cx="0" cy="8636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7"/>
          <p:cNvSpPr/>
          <p:nvPr/>
        </p:nvSpPr>
        <p:spPr>
          <a:xfrm flipV="1">
            <a:off x="6742080" y="200160"/>
            <a:ext cx="0" cy="129672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8"/>
          <p:cNvSpPr/>
          <p:nvPr/>
        </p:nvSpPr>
        <p:spPr>
          <a:xfrm>
            <a:off x="260280" y="9775800"/>
            <a:ext cx="38894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9"/>
          <p:cNvSpPr/>
          <p:nvPr/>
        </p:nvSpPr>
        <p:spPr>
          <a:xfrm>
            <a:off x="1557360" y="9705960"/>
            <a:ext cx="475308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0"/>
          <p:cNvSpPr/>
          <p:nvPr/>
        </p:nvSpPr>
        <p:spPr>
          <a:xfrm>
            <a:off x="260280" y="7257960"/>
            <a:ext cx="0" cy="251784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1"/>
          <p:cNvSpPr/>
          <p:nvPr/>
        </p:nvSpPr>
        <p:spPr>
          <a:xfrm flipV="1">
            <a:off x="189000" y="6536880"/>
            <a:ext cx="0" cy="2808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6"/>
          <p:cNvSpPr/>
          <p:nvPr/>
        </p:nvSpPr>
        <p:spPr>
          <a:xfrm>
            <a:off x="6719760" y="0"/>
            <a:ext cx="138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1"/>
          <p:cNvSpPr/>
          <p:nvPr/>
        </p:nvSpPr>
        <p:spPr>
          <a:xfrm>
            <a:off x="857160" y="2526120"/>
            <a:ext cx="5472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VOLUM UNIC </a:t>
            </a:r>
            <a:br>
              <a:rPr sz="1300"/>
            </a:b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– PIESE SCRISE SI PIESE DESENATE –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214880" y="9024840"/>
            <a:ext cx="2143080" cy="289800"/>
          </a:xfrm>
          <a:prstGeom prst="rect">
            <a:avLst/>
          </a:prstGeom>
          <a:solidFill>
            <a:srgbClr val="6a99c4">
              <a:alpha val="67000"/>
            </a:srgbClr>
          </a:solidFill>
          <a:ln w="3240">
            <a:solidFill>
              <a:srgbClr val="6a9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Octombrie 2013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6"/>
          <p:cNvSpPr/>
          <p:nvPr/>
        </p:nvSpPr>
        <p:spPr>
          <a:xfrm>
            <a:off x="642960" y="7882920"/>
            <a:ext cx="5626080" cy="28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a99c4">
                  <a:alpha val="5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iectant General:   S.C. TOTAL ROAD S.R.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"/>
          <p:cNvPicPr/>
          <p:nvPr/>
        </p:nvPicPr>
        <p:blipFill>
          <a:blip r:embed="rId1"/>
          <a:srcRect l="22448" t="35399" r="43129" b="36667"/>
          <a:stretch/>
        </p:blipFill>
        <p:spPr>
          <a:xfrm>
            <a:off x="285840" y="8667720"/>
            <a:ext cx="857160" cy="4287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3"/>
          <p:cNvSpPr/>
          <p:nvPr/>
        </p:nvSpPr>
        <p:spPr>
          <a:xfrm>
            <a:off x="1071720" y="8381880"/>
            <a:ext cx="61610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S.C. TOTAL ROAD S.R.L.</a:t>
            </a:r>
            <a:r>
              <a:rPr b="0" lang="ro-RO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Bucuresti, Str. Nucsoara, nr. 1, </a:t>
            </a:r>
            <a:r>
              <a:rPr b="1" i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bl. 13, sc.3, ap. 115, sector 6.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Telefon,Fax                   </a:t>
            </a:r>
            <a:r>
              <a:rPr b="0" i="1" lang="ro-RO" sz="700" spc="-1" strike="noStrike">
                <a:solidFill>
                  <a:srgbClr val="000000"/>
                </a:solidFill>
                <a:latin typeface="Arial"/>
              </a:rPr>
              <a:t>: 0724.715.501/</a:t>
            </a:r>
            <a:r>
              <a:rPr b="0" lang="ro-RO" sz="700" spc="-1" strike="noStrike">
                <a:solidFill>
                  <a:srgbClr val="000000"/>
                </a:solidFill>
                <a:latin typeface="Arial"/>
              </a:rPr>
              <a:t>031/424.52.66</a:t>
            </a:r>
            <a:r>
              <a:rPr b="0" i="1" lang="ro-RO" sz="7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E-mail                            : office@totalroad.r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Registrul Comertului    : J40/15081/2005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Cod unic de inregistrare: 1791860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o-RO" sz="700" spc="-1" strike="noStrike">
                <a:solidFill>
                  <a:srgbClr val="000000"/>
                </a:solidFill>
                <a:latin typeface="Arial"/>
              </a:rPr>
              <a:t>Cont deschis la BCR sucursala Tunari: RO77 RNCB028600116192000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2" descr="Stema.jpg"/>
          <p:cNvPicPr/>
          <p:nvPr/>
        </p:nvPicPr>
        <p:blipFill>
          <a:blip r:embed="rId2"/>
          <a:stretch/>
        </p:blipFill>
        <p:spPr>
          <a:xfrm>
            <a:off x="571680" y="237960"/>
            <a:ext cx="58896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1.jpg"/>
          <p:cNvPicPr/>
          <p:nvPr/>
        </p:nvPicPr>
        <p:blipFill>
          <a:blip r:embed="rId3"/>
          <a:stretch/>
        </p:blipFill>
        <p:spPr>
          <a:xfrm>
            <a:off x="768240" y="3706920"/>
            <a:ext cx="1438560" cy="3413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3.jpg"/>
          <p:cNvPicPr/>
          <p:nvPr/>
        </p:nvPicPr>
        <p:blipFill>
          <a:blip r:embed="rId4"/>
          <a:stretch/>
        </p:blipFill>
        <p:spPr>
          <a:xfrm>
            <a:off x="4668840" y="3035160"/>
            <a:ext cx="1652760" cy="4554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Untitled1.jpg"/>
          <p:cNvPicPr/>
          <p:nvPr/>
        </p:nvPicPr>
        <p:blipFill>
          <a:blip r:embed="rId5"/>
          <a:stretch/>
        </p:blipFill>
        <p:spPr>
          <a:xfrm>
            <a:off x="2189160" y="3303720"/>
            <a:ext cx="2498760" cy="234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Untitled2.jpg"/>
          <p:cNvPicPr/>
          <p:nvPr/>
        </p:nvPicPr>
        <p:blipFill>
          <a:blip r:embed="rId6"/>
          <a:stretch/>
        </p:blipFill>
        <p:spPr>
          <a:xfrm>
            <a:off x="2189160" y="5638680"/>
            <a:ext cx="25225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11:15:32Z</dcterms:created>
  <dc:creator>Mihnea Crihan</dc:creator>
  <dc:description/>
  <dc:language>en-US</dc:language>
  <cp:lastModifiedBy>SorinPC</cp:lastModifiedBy>
  <dcterms:modified xsi:type="dcterms:W3CDTF">2013-11-25T18:10:02Z</dcterms:modified>
  <cp:revision>125</cp:revision>
  <dc:subject/>
  <dc:title>Slide 1</dc:title>
</cp:coreProperties>
</file>